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5280" y="432756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5240" y="38098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32756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5240" y="432756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9240" y="38098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23560" y="38098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5280" y="432756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9240" y="432756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23560" y="432756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38098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5240" y="380988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04880" y="2590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5240" y="380988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95280" y="432756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5280" y="38098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5240" y="38098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5240" y="432756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5240" y="38098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5280" y="432756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95280" y="432756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5240" y="38098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32756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5240" y="432756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9240" y="38098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3560" y="38098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95280" y="432756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9240" y="432756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3560" y="432756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5240" y="380988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04880" y="2590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5240" y="380988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5280" y="432756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5240" y="38098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5240" y="432756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38098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5240" y="38098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32756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171840" y="763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7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6680" y="6399360"/>
            <a:ext cx="8975880" cy="2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20520" bIns="205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2000" y="1320840"/>
            <a:ext cx="7151760" cy="50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279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14616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27440" cy="484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927440" cy="4842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70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3184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9440" indent="-2952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41480" indent="-27792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41480" indent="-277920">
              <a:lnSpc>
                <a:spcPct val="12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41480" indent="-277920">
              <a:lnSpc>
                <a:spcPct val="12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48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27440" cy="484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0720" indent="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algn="ctr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63560" algn="ctr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635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635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ff"/>
                </a:solidFill>
                <a:latin typeface="Arial"/>
              </a:rPr>
              <a:t>Gli Standard nelle Telecomunicazion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0288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Narrow"/>
              </a:rPr>
              <a:t>Lorenzo Casac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Narrow"/>
              </a:rPr>
              <a:t>lorenzoc@qualcom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ff"/>
                </a:solidFill>
                <a:latin typeface="Arial"/>
              </a:rPr>
              <a:t>Perche’ standardizzare</a:t>
            </a:r>
            <a:endParaRPr b="0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re la comprens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i piu’ bassi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conomia di sc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e provenienti da fonti dive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curare che i dispositivi di diverse compagnie siano compatibili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operabilita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liore affid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dere” le evol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avanzare la tecnologia integrando i risultati della rice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renzo Casacc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00600" y="1523880"/>
            <a:ext cx="35053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523880"/>
            <a:ext cx="339084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92120" y="604800"/>
            <a:ext cx="6359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3G Standards F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00200" y="1765440"/>
            <a:ext cx="1676520" cy="97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03800" y="1574640"/>
            <a:ext cx="979560" cy="1295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2120" y="3276720"/>
            <a:ext cx="34160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a-cen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G: GSM, GPRS,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G: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3284640"/>
            <a:ext cx="3505320" cy="19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-cen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G: IS-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G: CDMA2000, HRPD, 1x-EV-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renzo Casacc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ff"/>
                </a:solidFill>
                <a:latin typeface="Arial"/>
              </a:rPr>
              <a:t>3GPP</a:t>
            </a:r>
            <a:endParaRPr b="0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e’ stato standardizzato tra la fine degli anni ’80 e l’inizo degli anni ’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successo di GSM dimostro’ l’importanza della standardizzazione in Eu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GPP lavora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70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zazione di UMTS (terza generazi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70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zazione d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EDGE (evoluzioni d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ttimizzazioni della seconda generazione per trasmissione dati a media velocita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70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uzioni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2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GPP e’ basato in Europa e “dominato” dalle compagnie europee ma la sua influenza si estende ad America e A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renzo Casacc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ff"/>
                </a:solidFill>
                <a:latin typeface="Arial"/>
              </a:rPr>
              <a:t>3GPP2</a:t>
            </a:r>
            <a:endParaRPr b="0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1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Stati Uniti non posseggono un solo standard di seconda generazione. Negli anni ’90 diverse tecnologie entrarono in competi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7000">
              <a:lnSpc>
                <a:spcPct val="11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-95 (CDMA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-136 (TDMA), 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7000">
              <a:lnSpc>
                <a:spcPct val="11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MA non si e’ piu’ evoluto e sta scompar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1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ultato: frammentazione del mercato e posizione “dominante” dell’Europa nelle comunicazioni cellul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1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GPP2 e’ stato creato per ovviare al problema della frammentazione per la terza gene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1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GPP2 lavora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7000">
              <a:lnSpc>
                <a:spcPct val="11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2000 (terza generazione, evoluzione di IS-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7000">
              <a:lnSpc>
                <a:spcPct val="11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uzioni future (1X-EV: dati ad alta velocita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15000"/>
              </a:lnSpc>
              <a:buClr>
                <a:srgbClr val="0000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GPP2 e’ “dominato” dalle compagnie americane ed ha influenza in America e Asia (non in Europa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renzo Casacc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ff"/>
                </a:solidFill>
                <a:latin typeface="Arial"/>
              </a:rPr>
              <a:t>Altri organi di standardizzazione</a:t>
            </a:r>
            <a:endParaRPr b="0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1838160" cy="524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3680" y="2895480"/>
            <a:ext cx="952200" cy="130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77880" y="1828800"/>
            <a:ext cx="1954080" cy="849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049720" y="4648320"/>
            <a:ext cx="970200" cy="105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29400" y="4776840"/>
            <a:ext cx="22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ttivita’ legate a 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23880" y="3181320"/>
            <a:ext cx="2216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415800" y="4191120"/>
            <a:ext cx="2632320" cy="914400"/>
            <a:chOff x="415800" y="4191120"/>
            <a:chExt cx="2632320" cy="914400"/>
          </a:xfrm>
        </p:grpSpPr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554400" y="4191120"/>
              <a:ext cx="227556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15800" y="4724640"/>
              <a:ext cx="26323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424240" y="1600200"/>
            <a:ext cx="235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upervisione mondiale e allocazioni delle freque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8280" y="335268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762120" y="5029200"/>
            <a:ext cx="1109520" cy="695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133720" y="51055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Interne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18892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pplicazioni per cellu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9560" y="3352680"/>
            <a:ext cx="23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ttivita’ legate a G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renzo Casacc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ff"/>
                </a:solidFill>
                <a:latin typeface="Arial"/>
              </a:rPr>
              <a:t>Cosa si decide negli standard</a:t>
            </a:r>
            <a:endParaRPr b="0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buClr>
                <a:srgbClr val="00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interfaccia ra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buClr>
                <a:srgbClr val="00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zionamento della r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buClr>
                <a:srgbClr val="00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urezza, Autentic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buClr>
                <a:srgbClr val="00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prestazioni minime di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buClr>
                <a:srgbClr val="00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zi (SMS, M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buClr>
                <a:srgbClr val="00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buClr>
                <a:srgbClr val="00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est way to predict the future is to invent it”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(Alan K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renzo Casacc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Lorenzo Casaccia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lorenzoc@qualcomm.com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www.qualcomm.com</a:t>
            </a:r>
            <a:br>
              <a:rPr sz="3600"/>
            </a:br>
            <a:br>
              <a:rPr sz="4900"/>
            </a:br>
            <a:br>
              <a:rPr sz="49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22:01:09Z</dcterms:created>
  <dc:creator>Lorenzo Casaccia</dc:creator>
  <dc:description>Tel:	+1 858 651 4319
E-mail:	lorenzoc@qualcomm.com</dc:description>
  <dc:language>en-US</dc:language>
  <cp:lastModifiedBy>Lorenzo Casaccia</cp:lastModifiedBy>
  <cp:lastPrinted>2000-08-21T17:35:50Z</cp:lastPrinted>
  <dcterms:modified xsi:type="dcterms:W3CDTF">2002-11-26T08:15:36Z</dcterms:modified>
  <cp:revision>658</cp:revision>
  <dc:subject>Standards</dc:subject>
  <dc:title>Standards</dc:title>
</cp:coreProperties>
</file>